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0009-E31D-40DE-A0F8-E4ABC0952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99D0-2E90-4E03-AA90-8E689588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30EB-0DAD-48FF-8F23-BB59D4D8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F2E4-F1CA-4E57-8806-37B3CC0D3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C3EE-A1DC-4A0A-A9B5-520604F2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BEEC-C43C-4BCB-BEFA-B4C96E7D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F910-9461-4DD1-81DB-006BECF5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41AD-982C-4BA9-8BF3-B012C488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26E3-B6F1-4FDE-9019-DDAD7410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504E-1939-4379-A029-FDDAB3CA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4134-93F1-40F0-956A-9BF1F125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DD08-7890-4E9F-914A-F4A7B8B8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7193-FB72-4512-A692-58E7974F8A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168120"/>
            <a:ext cx="8915400" cy="29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1120" rIns="228600" tIns="228600" bIns="1825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mplementation (PD)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Goal(s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371600"/>
          <a:ext cx="8458200" cy="5297400"/>
        </p:xfrm>
        <a:graphic>
          <a:graphicData uri="http://schemas.openxmlformats.org/drawingml/2006/table">
            <a:tbl>
              <a:tblPr/>
              <a:tblGrid>
                <a:gridCol w="914400"/>
                <a:gridCol w="3810240"/>
                <a:gridCol w="37335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ential Ques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l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id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ign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-223200"/>
            <a:ext cx="89154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1120" rIns="228600" tIns="228600" bIns="1825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ample Implementation (PD)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Goal(s): Complete a map for one course or subject and conduct a mixed group revie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4920" y="838080"/>
          <a:ext cx="8839080" cy="6019920"/>
        </p:xfrm>
        <a:graphic>
          <a:graphicData uri="http://schemas.openxmlformats.org/drawingml/2006/table">
            <a:tbl>
              <a:tblPr/>
              <a:tblGrid>
                <a:gridCol w="914400"/>
                <a:gridCol w="2387520"/>
                <a:gridCol w="2806560"/>
                <a:gridCol w="273060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 2  In-serv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30-3:30 p.m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 15  Study Gro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00-4:30 p.m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8  In-serv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30-3:30 p.m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ential Ques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s Curriculum Mapping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w can it serve as a HUB for school improvement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strategies can be used to ensure high quality map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w can the mapping process be used to make instructional decision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pping is a two-sided coin: diagnosis and prescrip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Definition of mapp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Components and examp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Connec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Possible products that could be produced in the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aching protocols can be used to ensure high quality map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The components: essential questions, concept/content, skills, assessmen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Coaching protocols and rubr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Read Through process provides data that can be used to make instructional decision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Seven Stage Review Mod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Process and Protoc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Data coll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Targets and prior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Action Plan..Next Ste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l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Identify the components of a ma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Review different maps and determine the specific elements that provide more inform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determine connections with other initi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Identify the reasons for mapping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unpack standards to identify precision skills and conten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Develop quality maps using a step-by-step approach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Use coaching protocols and rubric to strengthen map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Summarize the Review Pro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Use protocol to implement the Re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Collect and analyze dat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Determine targets and prioriti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Develop an Action Plan to address gaps and repetition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id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phic organizer distinguishing between old and new ter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phic organizer connecting initi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st of reasons for mapping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st of products that can be produced in the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ple standards the teams have unpacke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e month quality map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edback and highlights from coaching sessions using protocol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 charts from different tea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alysis of data from Read Through with noted prioriti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 Plan to address targe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ign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y a unit you wish to map and  identify the most important concept you want students to understan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lete two more months and bring them to the next study group sess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lement the Action Pla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228600" y="-176400"/>
            <a:ext cx="86868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1120" rIns="228600" tIns="228600" bIns="1825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ample Implementation (PD)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Goal(s):   Use Curriculum Mapping as the HUB for all school improvement initiatives in the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280" y="860400"/>
          <a:ext cx="8991720" cy="6023160"/>
        </p:xfrm>
        <a:graphic>
          <a:graphicData uri="http://schemas.openxmlformats.org/drawingml/2006/table">
            <a:tbl>
              <a:tblPr/>
              <a:tblGrid>
                <a:gridCol w="922320"/>
                <a:gridCol w="2408400"/>
                <a:gridCol w="2817720"/>
                <a:gridCol w="2843280"/>
              </a:tblGrid>
              <a:tr h="36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service (exampl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-service ( integrated exampl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-service (integrated exampl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ential Ques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s curriculum mapping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w can it serve as a HUB for school improvement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w can mapping be used as a tool in other training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y map literacy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can mapping support our work  in UbD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can “Backwards Design” be used to sharpen our map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M can serve as  a HUB for school improvement 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Purpose/Ration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Connections with other initi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Compon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Quality examp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Possible Benef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nguage capacity is the root of all student performance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ven Essential Strategies for integrating       Active Literacy skills (e.g. vocabulary, note taking, editing and revising, speaking and listening, etc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Examples of maps that have that include the  integration of literacy skil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wards Design  focuses on beginning with the end in min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Definition of Ub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xamples of Ub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Purpose and Value-Added Foc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pplication of the principles with Mapp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l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y the strengths and chang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at would enhance the curricul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velop a shared 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y compon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iew sample ma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y quality indicato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y how a map can be used as a  tool to link initi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ainstorm possible benef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y specific literacy skills they could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clude at their grade level or in their cour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y expected level of appl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rk in small groups to brainstorm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ssibil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iew maps and integrate appropriate skil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e and Contrast  UbD and Mapp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y reasons to incorporate  Ub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in pairs and apply the principles of UbD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individual ma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e maps to strengthen focu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id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st of strength and chan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st of benef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ps with integrated literacy skil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ed maps that incorporate UbD princip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ign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velop a unit map to bring to the next in-servic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ing feedback from lesson to after school study group sess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 the UbD principles and tools to develop  another unit ma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Text Box 41"/>
          <p:cNvSpPr/>
          <p:nvPr/>
        </p:nvSpPr>
        <p:spPr>
          <a:xfrm>
            <a:off x="3505320" y="6004080"/>
            <a:ext cx="27432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19:56:33Z</dcterms:created>
  <dc:creator>Ann Johnson</dc:creator>
  <dc:description/>
  <dc:language>en-US</dc:language>
  <cp:lastModifiedBy>Ann</cp:lastModifiedBy>
  <dcterms:modified xsi:type="dcterms:W3CDTF">2009-07-20T12:47:19Z</dcterms:modified>
  <cp:revision>5</cp:revision>
  <dc:subject/>
  <dc:title>Slide 1</dc:title>
</cp:coreProperties>
</file>